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EF56-9628-4411-B242-57CAC53B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0B59-997F-4D34-A462-346CC581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90FF-1FB2-423A-B7A5-78A9A275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5A15-F45E-4D67-94C7-9187F3B0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7A3A-D788-4B81-BF7A-7F859BB4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2C71-AD09-4978-BFEB-49D0529E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3D55-61F1-412D-90A1-FE95CD54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25F0-CC67-4415-857F-CFBF8CAF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8368-9A17-4DFD-B6B9-6025B3CF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54D3-CBBC-4780-8184-BCD41070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1E3F-6F01-4A48-9219-6F8D2A9C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4B22-E1E6-486A-9137-B26C069E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849C-EF23-407F-8150-86F50591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C7A2-F5AA-4C92-AA72-4664050F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8BEA-E53B-4AE3-AA30-FDDE4A84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1E08-FCFA-4F35-8A04-74B37924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016A-CA4C-4C8A-AE99-855DF0A8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186A-C9BA-4B3A-803D-04292D90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F60F-88CF-4701-941B-83287802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434-F129-4A7C-80B2-6A2532D0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CC70-E968-41CB-8965-400A9AB7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7566-0E01-45DE-84E5-11FA9D98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FD33-D6F9-444B-AA5F-70E00165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A590-D4C6-40F5-8311-E49A7A82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A6F8-371D-4671-B104-5D941DB5F3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6F4A-0C00-484B-9EA5-7581E05E9A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ревнегреческий Ликей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6675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ильгельм Кюхельбекер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890800" y="1066680"/>
            <a:ext cx="5186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ван Пущин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981080" y="120024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5238720" cy="6096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52387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114800" y="308628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4920" y="399960"/>
            <a:ext cx="83818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1T14:26:58Z</dcterms:created>
  <dc:creator>1</dc:creator>
  <dc:description/>
  <dc:language>en-US</dc:language>
  <cp:lastModifiedBy>1</cp:lastModifiedBy>
  <dcterms:modified xsi:type="dcterms:W3CDTF">2018-12-07T19:59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